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494-8A54-4AC9-A215-651B5FDC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63E-4349-477E-A0D2-506B24DB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530-D96E-4A12-B932-F34F39B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47E-F3A0-4527-BC00-F0C77548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CC8-2C0E-453D-A1DE-B7C806F2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0C0-A556-434D-87B7-808AE90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D16-5D61-4BEA-B6D6-0439C85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5B9-2CD3-4CDD-91C8-CD672E88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6A8-8835-4ECE-B028-6C8B6B2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B44-1D9C-4D98-8A99-C093312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4BB-2CD8-4301-B5F1-92A56A6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743-CC03-4CB5-BE5D-20FF7F53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6C06-8E34-410F-A064-306F2DEEA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ХОЧКИНОВ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ЛИМФОМ</a:t>
            </a:r>
            <a:br>
              <a:rPr sz="4400"/>
            </a:b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риказ случ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98989"/>
                </a:solidFill>
                <a:latin typeface="Calibri"/>
              </a:rPr>
              <a:t>Асс др Јелена Вучковић Филип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0492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 старости 19 год П.П упућен од стране изабраног лекара хематологу, због увећаних лимфних жлезда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тегоба наводи малаксалост, повремено гуше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гира постојање хроничних  болести, алергија, као и болести од хередитарног знач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м прегледом верификоване лимфне жлезде лево супраклавикуларно у пак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нормалан дисајни шум. На срцу радња ритмична, тонови јасни. ЛМС без от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и ритам, фр 80/мин, без промена ST сегмента и Т таласа. ТА 110/6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бдомен, мек испод равни грудног коша, јетра се палпира испод ДРЛ за око 1цм. Слезина се не палпира. Екстремитети без ед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лабораторијске анализ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6,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 85%, Ly 7%, Mo 6%, Eo 0,4, Ba 0,6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 5,5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, HgB 140g/l, HCT 47,2  Tr 414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ibrinogen 7,0g/l, LDH 243U/L, SE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 вра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во супраклавикуларно хипоехогена васкуларизована солидна формација величине 7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4мм која одговара лимфним нодус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ТГ плућ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дијастинална лимфаденопатиј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lky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74336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кардиографски прегле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дебљање зидова десне коморе.Уочен  перикардни излив циркуларно до 10мм. Паракардијално уочена маса,јасно ограничена, мекоткивна, величине 4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0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а сумња на лимфопролиферативну болест, спроведена допунска дија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а биопсија лимфне жлезде врата која указује на Ходгкинову болест по типу нодуларне склероз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дију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S I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hockinov limfom.jpg"/>
          <p:cNvPicPr/>
          <p:nvPr/>
        </p:nvPicPr>
        <p:blipFill>
          <a:blip r:embed="rId1"/>
          <a:stretch/>
        </p:blipFill>
        <p:spPr>
          <a:xfrm>
            <a:off x="4495680" y="3124080"/>
            <a:ext cx="4089600" cy="335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BVD (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ријабластин, Блеомицин, Винбласин, Декарбаз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 циклуса а након тога зрачење медијастинума, након тога још 3 циклуса 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VD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 је за сада у ремисији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0:36Z</dcterms:modified>
  <cp:revision>9</cp:revision>
  <dc:subject/>
  <dc:title>ХОЧКИНОВ ЛИМФОМ</dc:title>
</cp:coreProperties>
</file>