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182-20D7-4FE7-9278-6F4DECB1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B3E1-B75C-49EA-B0C1-DEAE544A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ED9C-F81C-43BF-8F6B-B7076D84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DD5-09B8-4F5F-AE50-090EC7EB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BA6-F702-44E9-81A4-BA3148C4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A0E-2596-461B-8F42-57F6E805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ED5-16B0-445C-8872-80AD3755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1DC-7C14-43D8-AE8F-CD067BC2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1DD-61C1-4E4B-B9A6-3658D7DB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89B-8C9A-426A-8161-85E29FE4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AA9-6ECC-4776-BF54-D968B579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C78-E297-431F-B650-A63F41EA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6C5-8F1A-48FA-A997-96D2B2C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4E1-6FCE-4262-8496-52140E60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37E-E340-4E61-9350-0486463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A692-3778-439D-873B-29AFE250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00040" y="1428840"/>
            <a:ext cx="8001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меди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мет: Интерна медици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тавна јединица: </a:t>
            </a: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мунопролиферативне бол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ч:  </a:t>
            </a:r>
            <a:r>
              <a:rPr b="1" i="1" lang="sr-CS" sz="2400" spc="-1" strike="noStrike" u="sng">
                <a:solidFill>
                  <a:srgbClr val="6600ff"/>
                </a:solidFill>
                <a:uFillTx/>
                <a:latin typeface="Arial"/>
              </a:rPr>
              <a:t>Проф др Предраг Ђурђ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0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Дијагноза ММ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≥ 1 „major” + 1 „minor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≥ 3 „minor”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e/Grei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2133720"/>
          <a:ext cx="7772400" cy="4562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илтрација костне сржи плазмоцитим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илтрација костне сржи плазмоцитим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 29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35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2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e Jones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1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4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 испод концентрација наведених у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јуми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еолитичке лезиј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гамаглобулинемија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M &lt; 0,5gr/L; IgA &lt; 1gr/L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 &lt; 6gr/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Одређивање клиничког стадијума -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Duri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Salmo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4360" y="1484280"/>
          <a:ext cx="8459640" cy="5222880"/>
        </p:xfrm>
        <a:graphic>
          <a:graphicData uri="http://schemas.openxmlformats.org/drawingml/2006/table">
            <a:tbl>
              <a:tblPr/>
              <a:tblGrid>
                <a:gridCol w="3313080"/>
                <a:gridCol w="514656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ј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18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 туморска ма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 критеријуми наведени исп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глоб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gt;10 g/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 &lt; 3.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A &lt; 3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G &lt; 5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и ланци у урин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lt; 4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рац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но једна остеолитичка лезиј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I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медијерна туморска ма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стадију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стадију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18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а туморска ма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дан или више критеријума наведених исп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глоб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lt; 8.5 g/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 &gt; 3.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A &gt; 5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G &gt; 7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и ланци у урин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gt; 12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ац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&gt;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остеолитичке лез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67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убкласификациј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умска концентрација креатини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&lt;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m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/L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 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умска концентрација креатини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≥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m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te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onal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Staging Sist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SS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65280" y="2057400"/>
          <a:ext cx="7810560" cy="3403440"/>
        </p:xfrm>
        <a:graphic>
          <a:graphicData uri="http://schemas.openxmlformats.org/drawingml/2006/table">
            <a:tbl>
              <a:tblPr/>
              <a:tblGrid>
                <a:gridCol w="1415880"/>
                <a:gridCol w="639468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&lt; 3.5 mg/L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албуми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≥ 3.5 m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&gt; 3.5 mg/L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албуми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lt; 3.5 mg/d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                                           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3.5 - 5.5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&gt; 5.5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05228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М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Метастазе малигних тумора у кост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aldenstroem макроглобул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Хроничне нефропат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5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олесници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&lt; 65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исокодозна ХТ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утолога трансплантација МЋ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логена трансплантација МЋ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олесници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&gt; 65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венционална Х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Новодијагностиковани болесници у IA клиничком стадијуму (Durie&amp;Sal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Болесници у IA клиничком стадијуму без симптома не захтевају примену специфичног хематолошког лечења. Код ових болесника је индиковано праћење хематолошког статуса у тромесечним интервал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III клинички стадијум (&lt; 65 годин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) Хемиотерапијске комбинације са талидомидом (CTD ili T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) Хемиотерапијске комбинације са бортезомибом (Vel-Dex, PAD ili V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утолога ТМЋ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III клинички стадијум (&gt; 65 година)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) Хемиотерапијске комбинације са талидомидом (MPT ili C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) Хемиотерапијске комбинације са бортезомибом (MPV, Vel-Dex ili V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супортативно 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исфосфо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муноглобу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лазмафереза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 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Имунопролифератив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661760"/>
            <a:ext cx="7780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упа малигних болести крви које настају услед бујања клона Б лимфоцита, лимфоплазмоцита или плазмоци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атолошки клон синтетише М-компоне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-компонента је цео молекул Иг или његов лаки или тешки лана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атолошки протеин се функцијски разликује од нормалних Иг и зато се назива парапрот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Имунопролифератив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7400" y="1828440"/>
            <a:ext cx="851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ултипли мијелом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плазмоцитна леук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Waldenstrom-ова болест (макроглобулинем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примарна амилоид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болест тешких ланаца (Франклинова бол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есенцијална моноклонална криоглобул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бенигна моноклонска хипергамаглобулин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ултипли мијелом (М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игна болест настала неконтролисаном пролиферацијом незрелих и зрелих плазмоцита који потичу из једног кл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чк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фор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 с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ултип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јелом (дифузн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солит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п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цитом (локал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трамедуларни миј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moldering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„тињајући”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јелом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цитн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леуке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91960"/>
            <a:ext cx="77756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355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атолошки плазмоцити стварају М прот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 проте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 око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9%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лучајева у серуму и/или урину се налаз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G &gt; 5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A 20-25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E i IgD 1-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ки ланци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1%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лучајева су несекреторни – НЕМА М-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80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пидем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циденца 1-2 оболела на 100000 стано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% свих малигн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0% свих хематолошких малигн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честалост расте са старошћ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највише оболеих после 65.год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2%  оболелих је млађе од 40.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ешће болују мушкар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09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тио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Етиологија НЕПОЗ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е манифестације су последица биолошких карактеристика плазмоцита и абнормалности проузрокованих М-протеин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лазмоцитна пролиферац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мултипле остеоличке кошта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хиперкалц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панцитопениј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оноклонални М проте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смањење нивоа нормалних 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первискоз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бубрежна инсуфициј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5520" y="2133720"/>
            <a:ext cx="880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Око 15-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30%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болесника без симп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чк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мпт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 у костима 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атол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шк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р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еформитети костију и смањ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ње телесне вис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ама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аксалост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честале и тешке инфекциј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н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инсуфициј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еморагијска дија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еуролошки испад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553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6644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аборатор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 &gt; 100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неми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ромбоцит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гранулоцит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leaux феномен у периферном разм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хиперпроте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хиперкалц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ротеинурија (Bence-J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зотемиј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8T03:58:38Z</dcterms:created>
  <dc:creator>Janko</dc:creator>
  <dc:description/>
  <dc:language>en-US</dc:language>
  <cp:lastModifiedBy>Administrator</cp:lastModifiedBy>
  <dcterms:modified xsi:type="dcterms:W3CDTF">2016-08-30T19:21:11Z</dcterms:modified>
  <cp:revision>2</cp:revision>
  <dc:subject/>
  <dc:title>Slide 1</dc:title>
</cp:coreProperties>
</file>