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3"/>
          <p:cNvSpPr/>
          <p:nvPr/>
        </p:nvSpPr>
        <p:spPr>
          <a:xfrm>
            <a:off x="500040" y="1428840"/>
            <a:ext cx="80010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медиц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едмет: Интерна медицин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аставна јединица: </a:t>
            </a:r>
            <a:r>
              <a:rPr b="1" i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Хроничне лимфопролиферативне боле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едавач:  </a:t>
            </a:r>
            <a:r>
              <a:rPr b="1" i="1" lang="sr-CS" sz="2400" spc="-1" strike="noStrike" u="sng">
                <a:solidFill>
                  <a:srgbClr val="6600ff"/>
                </a:solidFill>
                <a:uFillTx/>
                <a:latin typeface="Arial"/>
              </a:rPr>
              <a:t>Проф др Предраг Ђурђ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Патогенеза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НХ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ивација протоoнког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активација тумор супресорских г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5 про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Класификација лимф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ope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mphoma clasification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класиф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ц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a 2000,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201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Принцип класифика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БИН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фолошких подат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унохистохемијских подат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иничких подат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нетских подат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Симпто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зистентно или прогредирајуће, углавном безболно увећање лимфних чво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леномегалија и понекад хепатомегал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кстранодални тум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емећаји хематопое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нституционални симптоми (субфебрилност, губитак у ТT, ноћно презнојавањ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специфични симпто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826920" y="2492280"/>
            <a:ext cx="7858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SzPct val="1235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зиром да лимфоцити круже по целом     организму, лимфом може да се појави у једном лимфном чвору, групи лимфних чворова или у неком другом орга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 такође да захвати и јетру, костну срж, желудац, око, јајник, плућа, кост и 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Екстранодалне манифеста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0000"/>
                </a:solidFill>
                <a:latin typeface="Arial"/>
              </a:rPr>
              <a:t>Дијагностика НХ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4520" y="1260000"/>
            <a:ext cx="75913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Arial"/>
              </a:rPr>
              <a:t>Постављање дијагнозе лимф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497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Анамнеза и физикални прегл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Лаборатор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Рендгенски сним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Ултразвучни прегл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6600"/>
                </a:solidFill>
                <a:latin typeface="Arial"/>
              </a:rPr>
              <a:t>Биоп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Компјутеризована томографија (ЦТ тј. скене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Магнетна резона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Лимфограф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7201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Arial"/>
              </a:rPr>
              <a:t>Да би се поставила кона</a:t>
            </a:r>
            <a:r>
              <a:rPr b="0" lang="sr-CS" sz="30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0" lang="sr-CS" sz="3200" spc="-1" strike="noStrike">
                <a:solidFill>
                  <a:srgbClr val="ff0000"/>
                </a:solidFill>
                <a:latin typeface="Arial"/>
              </a:rPr>
              <a:t>на дијагноза, неопходна ј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2680" y="2287080"/>
            <a:ext cx="80535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6600"/>
                </a:solidFill>
                <a:latin typeface="Arial"/>
              </a:rPr>
              <a:t>Биопсиј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: хирург узима узорак ткива како би га патолог испитао под микроскопом и проверио да ли постоје малигне ћел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опсија се обично узима из лимфног чвора, али може и из осталих тк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некад може лапаротомија: операција током које хирург узима узорак ткива углавном лимфних чворова из трбуха који ће бити испитани под микроскоп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81122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Arial"/>
              </a:rPr>
              <a:t>хирушка биопсија увећаног нодуса или патолошког тумефакта са довољно материјала за допунске анали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иницијално урадити биопсију + аспирацију костне ср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лумбална пункција је део процедуре комбинована са првом профилактичком терапијом у високо агресивних лимф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 u="sng">
                <a:solidFill>
                  <a:srgbClr val="ff0000"/>
                </a:solidFill>
                <a:uFillTx/>
                <a:latin typeface="Arial"/>
              </a:rPr>
              <a:t>Одређивање клиничког стадијума болести </a:t>
            </a:r>
            <a:r>
              <a:rPr b="1" i="1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(stag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68360" y="2565360"/>
            <a:ext cx="84582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ccff"/>
                </a:solidFill>
                <a:latin typeface="Arial"/>
              </a:rPr>
              <a:t>I </a:t>
            </a:r>
            <a:r>
              <a:rPr b="0" lang="sl-SI" sz="1600" spc="-1" strike="noStrike">
                <a:solidFill>
                  <a:srgbClr val="33ccff"/>
                </a:solidFill>
                <a:latin typeface="Arial"/>
              </a:rPr>
              <a:t>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Захвaтaње само једног лимфног чвoра ил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мфоидне стру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тур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(слезина, тимус, </a:t>
            </a:r>
            <a:r>
              <a:rPr b="0" i="1" lang="sl-SI" sz="1600" spc="-1" strike="noStrike">
                <a:solidFill>
                  <a:srgbClr val="000000"/>
                </a:solidFill>
                <a:latin typeface="Arial"/>
              </a:rPr>
              <a:t>Waldeyer-ов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прстен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, т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оnзил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ccff"/>
                </a:solidFill>
                <a:latin typeface="Arial"/>
              </a:rPr>
              <a:t>II</a:t>
            </a:r>
            <a:r>
              <a:rPr b="1" lang="sl-SI" sz="16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Захвaтaње два ил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ше рeгиона лимфн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х чворo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а сa и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те с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ране дијафрaгм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(медијаст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нум се рачунa као једно место; хиларн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лимфн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чворo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и су латерaлизов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ccff"/>
                </a:solidFill>
                <a:latin typeface="Arial"/>
              </a:rPr>
              <a:t>III</a:t>
            </a:r>
            <a:r>
              <a:rPr b="1" lang="sl-SI" sz="16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Захвaтaње лимфн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х чворo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а ил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струк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ур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а сa обе стране дијафрaгм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ccff"/>
                </a:solidFill>
                <a:latin typeface="Arial"/>
              </a:rPr>
              <a:t>IV</a:t>
            </a:r>
            <a:r>
              <a:rPr b="1" lang="sl-SI" sz="16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Захвaтaње eкстранодaлnих lокализaцiј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- без симптоmа    </a:t>
            </a:r>
            <a:r>
              <a:rPr b="1" lang="sl-SI" sz="2000" spc="-1" strike="noStrike">
                <a:solidFill>
                  <a:srgbClr val="3399ff"/>
                </a:solidFill>
                <a:latin typeface="Arial"/>
              </a:rPr>
              <a:t>Б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- субфеbрилност, профузнo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ојењe ил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губитак у телeсној тежи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Хематолошки малигнит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000" y="2144880"/>
            <a:ext cx="8202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99ff"/>
                </a:solidFill>
                <a:latin typeface="Arial"/>
              </a:rPr>
              <a:t>(А) Мијелопролиферативне болести</a:t>
            </a:r>
            <a:r>
              <a:rPr b="1" lang="sr-CS" sz="2400" spc="-1" strike="noStrike">
                <a:solidFill>
                  <a:srgbClr val="3399ff"/>
                </a:solidFill>
                <a:latin typeface="Arial"/>
              </a:rPr>
              <a:t> (најчешћ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МЛ, ХМЛ, ПРВ, ЕТ, М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99ff"/>
                </a:solidFill>
                <a:latin typeface="Arial"/>
              </a:rPr>
              <a:t>(Б) Лимфопролиферативне болести</a:t>
            </a:r>
            <a:r>
              <a:rPr b="1" lang="sr-CS" sz="2400" spc="-1" strike="noStrike">
                <a:solidFill>
                  <a:srgbClr val="3399ff"/>
                </a:solidFill>
                <a:latin typeface="Arial"/>
              </a:rPr>
              <a:t> (најчешћ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кутна лимфобластна леук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рони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лимфоцитна леукемија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Лимфоми (Хочкинов и Нехочкински лимф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Имунопролиферативне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 u="sng">
                <a:solidFill>
                  <a:srgbClr val="ff0000"/>
                </a:solidFill>
                <a:uFillTx/>
                <a:latin typeface="Arial"/>
              </a:rPr>
              <a:t>Терапија НХ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Одлучивање о тeрапиј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800"/>
            </a:br>
            <a:r>
              <a:rPr b="1" lang="sl-SI" sz="2800" spc="-1" strike="noStrike">
                <a:solidFill>
                  <a:srgbClr val="ff0000"/>
                </a:solidFill>
                <a:latin typeface="Arial"/>
              </a:rPr>
              <a:t>Чиме сe руковoдим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 u="sng">
                <a:solidFill>
                  <a:srgbClr val="ff0000"/>
                </a:solidFill>
                <a:uFillTx/>
                <a:latin typeface="Arial"/>
              </a:rPr>
              <a:t>Терапија НХ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14400" y="1828800"/>
            <a:ext cx="80773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 algn="just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990000"/>
                </a:solidFill>
                <a:latin typeface="Arial"/>
              </a:rPr>
              <a:t>1.Шта је циљ терапије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излечење, продужење преживљавања, терапијски одгово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квалитет живота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990000"/>
                </a:solidFill>
                <a:latin typeface="Arial"/>
              </a:rPr>
              <a:t>2. Старосна доб болесника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хронолошка или физиолош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990000"/>
                </a:solidFill>
                <a:latin typeface="Arial"/>
              </a:rPr>
              <a:t>3. Прогнозни фактори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ИПИ, ФЛИПИ, ЛДХ, бета2 микроглобулин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К</a:t>
            </a: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67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цитогенетске проме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4.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990000"/>
                </a:solidFill>
                <a:latin typeface="Arial"/>
              </a:rPr>
              <a:t>Клиничке особине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волуминозност, степен инфилтрације сржи и периферне крви, </a:t>
            </a:r>
            <a:r>
              <a:rPr b="1" i="1" lang="sl-SI" sz="1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посебне” локације или ризик  трансформациј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5.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990000"/>
                </a:solidFill>
                <a:latin typeface="Arial"/>
              </a:rPr>
              <a:t>Одлука болес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ff0000"/>
                </a:solidFill>
                <a:uFillTx/>
                <a:latin typeface="Arial"/>
              </a:rPr>
              <a:t>УВЕК НА УМУ:</a:t>
            </a:r>
            <a:r>
              <a:rPr b="1" lang="sr-Latn-CS" sz="2400" spc="-1" strike="noStrike" u="sng">
                <a:solidFill>
                  <a:srgbClr val="00ff00"/>
                </a:solidFill>
                <a:uFillTx/>
                <a:latin typeface="Arial"/>
              </a:rPr>
              <a:t> однос корист/последице леч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 u="sng">
                <a:solidFill>
                  <a:srgbClr val="ff0000"/>
                </a:solidFill>
                <a:uFillTx/>
                <a:latin typeface="Arial"/>
              </a:rPr>
              <a:t>Терапија НХ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187280" y="1700280"/>
            <a:ext cx="80773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Ко спроводи лечење оболелог са малигном болешћ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терапијски приступ увек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мултидисциплинаран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763640" y="3716280"/>
            <a:ext cx="5545080" cy="42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 u="sng">
                <a:solidFill>
                  <a:srgbClr val="00ff00"/>
                </a:solidFill>
                <a:uFillTx/>
                <a:latin typeface="Arial"/>
              </a:rPr>
              <a:t>Тим професионала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- лекар опште прак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- хематолог/онк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- радиотерапе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- фармак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- физија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- псих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- психија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- медицинска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- социјални рад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 u="sng">
                <a:solidFill>
                  <a:srgbClr val="ff0000"/>
                </a:solidFill>
                <a:uFillTx/>
                <a:latin typeface="Arial"/>
              </a:rPr>
              <a:t>Терапија НХ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Терапијски модалите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- watch аnd wаit</a:t>
            </a:r>
            <a:br>
              <a:rPr sz="2800"/>
            </a:b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- радиотерапија </a:t>
            </a:r>
            <a:br>
              <a:rPr sz="2800"/>
            </a:b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- хемиотерапија </a:t>
            </a:r>
            <a:br>
              <a:rPr sz="2800"/>
            </a:b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- хирушка терапија</a:t>
            </a:r>
            <a:br>
              <a:rPr sz="2800"/>
            </a:b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- биолошка терапија</a:t>
            </a:r>
            <a:br>
              <a:rPr sz="2800"/>
            </a:b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- комбинациј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+ лечење комплик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Радиотерап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68360" y="2104920"/>
            <a:ext cx="80773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503280" y="1828800"/>
            <a:ext cx="864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Ти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лекар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диотерапеут, физичар, дозиметриста, мед.технич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843280" y="393372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Радиотерап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971640" y="3068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ff00"/>
                </a:solidFill>
                <a:latin typeface="Arial"/>
              </a:rPr>
              <a:t>курати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780000" y="3068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ff00"/>
                </a:solidFill>
                <a:latin typeface="Arial"/>
              </a:rPr>
              <a:t>хит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867280" y="3068640"/>
            <a:ext cx="21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ff00"/>
                </a:solidFill>
                <a:latin typeface="Arial"/>
              </a:rPr>
              <a:t>палијати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84360" y="479736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Gama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зра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(ko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балт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5796000" y="4807080"/>
            <a:ext cx="2519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зра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611280" y="5734080"/>
            <a:ext cx="8062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мена: ФРАКЦИОНИСАНА, 5x недељно, 5-8 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 flipV="1">
            <a:off x="5724360" y="3499920"/>
            <a:ext cx="719280" cy="50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 flipV="1">
            <a:off x="4284720" y="3500280"/>
            <a:ext cx="0" cy="433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 flipH="1" flipV="1">
            <a:off x="2123640" y="3499920"/>
            <a:ext cx="1079640" cy="50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 flipH="1">
            <a:off x="2843280" y="4437000"/>
            <a:ext cx="93672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6"/>
          <p:cNvSpPr/>
          <p:nvPr/>
        </p:nvSpPr>
        <p:spPr>
          <a:xfrm>
            <a:off x="5003640" y="4437000"/>
            <a:ext cx="107964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Хемиотера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сновни прицип - комбинована хе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терап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сваки од лекова делује на одређену фаз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ћелијског цикл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механизам дејства сваког лека је различ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нема укрштене резистенције међу леков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сваки лек има различиту ограничавајућу доз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токсично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Хеми</a:t>
            </a:r>
            <a:r>
              <a:rPr b="1" i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i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тера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228708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Алкилирајући леков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(Циклофосфамид, Ифосфамид, хлорамбуцил, дакарбазин и д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Антимикротубулни лек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(Vinca алкалоид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Инхибитор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НК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Топоизомераза I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(доксорубицин, даунорубицин, идарубицин, митоксантрон, етопозид и д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Антиметаболи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(метотрексат, цитозар, флударабин, гемцитабин, хлородеоксиаденозин и д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Платински анало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(цисплатин, карбоплатин и д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ост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 u="sng">
                <a:solidFill>
                  <a:srgbClr val="ff0000"/>
                </a:solidFill>
                <a:uFillTx/>
                <a:latin typeface="Arial"/>
              </a:rPr>
              <a:t>Биолошка тера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Arial"/>
              </a:rPr>
              <a:t>Моноклонска антите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ритуксимаб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мтузумаб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Arial"/>
              </a:rPr>
              <a:t>Имуномодулат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интерферо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Arial"/>
              </a:rPr>
              <a:t>Ћелијска терап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алогена и аутологна трансплантација МЋ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инфузија донорских лимфоцит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Arial"/>
              </a:rPr>
              <a:t>Фактори раста и цитоки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Епо, G-CSF, GM-C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200" spc="-1" strike="noStrike" u="sng">
                <a:solidFill>
                  <a:srgbClr val="ff0000"/>
                </a:solidFill>
                <a:uFillTx/>
                <a:latin typeface="Arial"/>
              </a:rPr>
              <a:t>Компликације терапије НХ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мијелосупресиј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томат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мучнина, повраћањ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лопециј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лергијске реа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индром лизе тум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 u="sng">
                <a:solidFill>
                  <a:srgbClr val="ff0000"/>
                </a:solidFill>
                <a:uFillTx/>
                <a:latin typeface="Arial"/>
              </a:rPr>
              <a:t>Супортативна терапија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контрола бо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палијативно збриња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ентерална и парентерална исхр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психосоматска потпор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необично значајан и интегрални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део савременог лечења НХ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Arial"/>
              </a:rPr>
              <a:t>Хроничне лимфопролиферативне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 су сва </a:t>
            </a:r>
            <a:r>
              <a:rPr b="0" lang="sr-CS" sz="2400" spc="-1" strike="noStrike">
                <a:solidFill>
                  <a:srgbClr val="333399"/>
                </a:solidFill>
                <a:latin typeface="Arial"/>
              </a:rPr>
              <a:t>бенигна и малиг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обољења лимфног система хроничног т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лигне хроничне лимфопролиферативне болести су веома хетерогена група клонских пролиферација </a:t>
            </a:r>
            <a:r>
              <a:rPr b="0" lang="sr-CS" sz="2400" spc="-1" strike="noStrike">
                <a:solidFill>
                  <a:srgbClr val="333399"/>
                </a:solidFill>
                <a:latin typeface="Arial"/>
              </a:rPr>
              <a:t>углавном Б лимфоци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које чине 90% свих хроничних лимфопролиферативних болести, док су неопластичне пролиферације Т лимфоцита, плазмоцита  и НК ћелија веома рет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Ход</a:t>
            </a:r>
            <a:r>
              <a:rPr b="0" lang="sr-CS" sz="4800" spc="-1" strike="noStrike">
                <a:solidFill>
                  <a:srgbClr val="ff0000"/>
                </a:solidFill>
                <a:latin typeface="Arial"/>
              </a:rPr>
              <a:t>чк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инов лимфом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Ход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чк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инов лимфом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дефини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лигни тумор кога карактеришу малиг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Рид-Штернбергове ћел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запаљењски, нетуморски, ћелијски инфилтрат у позади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Епидеми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вих лимф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ешће болују мушкар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 пика учесталости – 28. и 60.година (САД и ЕУ), у Јапану нема првог пика, 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иромашним земља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м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ругог п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удан утицај социјалног и економског нивоа на учесталост оболевања: код економски виших слојева друштва чешће оболевају млађи одрасли него деца и прогностички су бољи подтипови, док у економски лошијим слојевима чешће оболевају деца и то прогностички лошији подтип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Ети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ЕПОЗ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умњи да је претх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 инфекција ЕБВ (инфективна мононуклеоза) претходник 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али то није и доказ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е постоји специфична цитогенетска промена карактеристична за 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ешћи код особа ко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олују од аутоимуних болести или су имунодефицијент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Клиничка с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мфаденопатија –центрипетална и аксија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 симптоматоло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лаксал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мар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илтрација нелимфатичних орга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кашаљ, бол у грудима, гушење 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y VC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инфилтрација плућа, перикар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костобоља (инфилтрација коштаног тки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главобоља и поремећаји ви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инфилтрација ЦН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надутост, болови у стомаку, асците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Клиничка с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Лимфаденопатија –центрипетална и аксијал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Лимфни нодуси су увећани, безболни, мек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-5% болесника осећа бо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 ЛН после конзумирања алкох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ајчешће на врату, супраклавикуларним јамама и медијастину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екада ЛН спонтано нестану, па се јаве на другом ме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Дијагн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иопсија и ПХ верифик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еопходно присуство 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ернберг-ових ћел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о је велика ћелија са билобарним или мултилобарним јед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уморска ћелија Б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или неког друг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ћелијског порек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ја је изгубила скоро све морфолошке карактеристике ћелије од које је поте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епознато порек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а мутиране, реаранжиране Ig г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кспримира нове г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аријанте Рид-Штернбергових ћел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д-Штернбергова ћел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нонуклеарна (Хочкинова) ћел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кунарна ћел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мификована ћел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&amp;Х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лимфоцитна и хистиоцитна), poпcоrn ћел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-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рнбергова ћел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мунофенотипски показује спектар маркера који се не нелази ни на једној ћел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 с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D25 i </a:t>
            </a:r>
            <a:r>
              <a:rPr b="0" lang="sr-Latn-CS" sz="2800" spc="-1" strike="noStrike">
                <a:solidFill>
                  <a:srgbClr val="333399"/>
                </a:solidFill>
                <a:latin typeface="Arial"/>
              </a:rPr>
              <a:t>CD3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 и Т лимфоцит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CD13, </a:t>
            </a:r>
            <a:r>
              <a:rPr b="0" lang="sr-Latn-CS" sz="2800" spc="-1" strike="noStrike">
                <a:solidFill>
                  <a:srgbClr val="333399"/>
                </a:solidFill>
                <a:latin typeface="Arial"/>
              </a:rPr>
              <a:t>CD15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CD74 –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ранулоцит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CD2, CD3, CD4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CD6, CD5 –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 лимфоцит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CD45 –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ндритич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800" spc="-1" strike="noStrike">
                <a:solidFill>
                  <a:srgbClr val="333399"/>
                </a:solidFill>
                <a:latin typeface="Arial"/>
              </a:rPr>
              <a:t>CD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0000"/>
                </a:solidFill>
                <a:latin typeface="Arial"/>
              </a:rPr>
              <a:t>Rye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класификацијa ХЛ </a:t>
            </a:r>
            <a:r>
              <a:rPr b="0" lang="sr-Latn-CS" sz="3600" spc="-1" strike="noStrike">
                <a:solidFill>
                  <a:srgbClr val="ff0000"/>
                </a:solidFill>
                <a:latin typeface="Arial"/>
              </a:rPr>
              <a:t>(196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0920" y="23270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4 хистолoшка тип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мфоцит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едоминаци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 (ЛП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нодуларна склероза (НС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ш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ви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целуlарнос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М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лимфоцитна 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плециј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ЛД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лaсифиkaциja лимфома 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 Revised European American Classification of Lymfo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) уводи и 5. подтип – </a:t>
            </a:r>
            <a:r>
              <a:rPr b="0" lang="sr-CS" sz="2800" spc="-1" strike="noStrike">
                <a:solidFill>
                  <a:srgbClr val="333399"/>
                </a:solidFill>
                <a:latin typeface="Arial"/>
              </a:rPr>
              <a:t>лимфоцитима бoгaтa kлaсичнa Х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971640" y="2349360"/>
            <a:ext cx="754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Imago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Imago"/>
              </a:rPr>
              <a:t>Данaс sе 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з</a:t>
            </a:r>
            <a:r>
              <a:rPr b="0" lang="en-US" sz="2000" spc="-1" strike="noStrike">
                <a:solidFill>
                  <a:srgbClr val="000000"/>
                </a:solidFill>
                <a:latin typeface="Imago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 зa преко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1" lang="sl-SI" sz="2000" spc="-1" strike="noStrike">
                <a:solidFill>
                  <a:srgbClr val="ff6600"/>
                </a:solidFill>
                <a:latin typeface="Imago"/>
              </a:rPr>
              <a:t>35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врст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ХЛ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!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ago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Imago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Imago"/>
              </a:rPr>
              <a:t>НХЛ ч</a:t>
            </a:r>
            <a:r>
              <a:rPr b="0" lang="en-US" sz="2000" spc="-1" strike="noStrike">
                <a:solidFill>
                  <a:srgbClr val="000000"/>
                </a:solidFill>
                <a:latin typeface="Imago"/>
              </a:rPr>
              <a:t>ин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ко </a:t>
            </a:r>
            <a:r>
              <a:rPr b="0" lang="en-US" sz="2000" spc="-1" strike="noStrike">
                <a:solidFill>
                  <a:srgbClr val="000000"/>
                </a:solidFill>
                <a:latin typeface="Imago"/>
              </a:rPr>
              <a:t>4/5 свих лимфо</a:t>
            </a:r>
            <a:r>
              <a:rPr b="0" lang="sr-CS" sz="2000" spc="-1" strike="noStrike">
                <a:solidFill>
                  <a:srgbClr val="000000"/>
                </a:solidFill>
                <a:latin typeface="Imago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Imago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Imag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284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Данaс у свету има преко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1" lang="sl-SI" sz="2000" spc="-1" strike="noStrike">
                <a:solidFill>
                  <a:srgbClr val="ff6600"/>
                </a:solidFill>
                <a:latin typeface="Imago"/>
              </a:rPr>
              <a:t>1,000,000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људи са лимфоmoм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284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Сваке године сe  дијагностикује окo</a:t>
            </a:r>
            <a:r>
              <a:rPr b="1" lang="sl-SI" sz="2000" spc="-1" strike="noStrike">
                <a:solidFill>
                  <a:srgbClr val="ff6600"/>
                </a:solidFill>
                <a:latin typeface="Imago"/>
              </a:rPr>
              <a:t> 360,000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нов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ago"/>
              </a:rPr>
              <a:t>     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случајева лимфо</a:t>
            </a:r>
            <a:r>
              <a:rPr b="0" lang="sr-CS" sz="2000" spc="-1" strike="noStrike">
                <a:solidFill>
                  <a:srgbClr val="000000"/>
                </a:solidFill>
                <a:latin typeface="Imago"/>
              </a:rPr>
              <a:t>м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284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ago"/>
              </a:rPr>
              <a:t>  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Више</a:t>
            </a:r>
            <a:r>
              <a:rPr b="0" lang="en-US" sz="20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од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1" lang="sl-SI" sz="2000" spc="-1" strike="noStrike">
                <a:solidFill>
                  <a:srgbClr val="ff6600"/>
                </a:solidFill>
                <a:latin typeface="Imago"/>
              </a:rPr>
              <a:t>200,000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људи умире годишње од лимфо</a:t>
            </a:r>
            <a:r>
              <a:rPr b="0" lang="sr-CS" sz="2000" spc="-1" strike="noStrike">
                <a:solidFill>
                  <a:srgbClr val="000000"/>
                </a:solidFill>
                <a:latin typeface="Imago"/>
              </a:rPr>
              <a:t>м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а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0000"/>
                </a:solidFill>
                <a:latin typeface="Arial"/>
              </a:rPr>
              <a:t>Нехо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lang="sr-Latn-CS" sz="3600" spc="-1" strike="noStrike">
                <a:solidFill>
                  <a:srgbClr val="ff0000"/>
                </a:solidFill>
                <a:latin typeface="Arial"/>
              </a:rPr>
              <a:t>чкински лимфоми (НХ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лимфоцит</a:t>
            </a:r>
            <a:r>
              <a:rPr b="0" lang="sr-Latn-CS" sz="36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а предомин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нодуларни тип раста, параграну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Л&amp;Х, poпcоrn, неопластичне ћел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нема Р</a:t>
            </a: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д</a:t>
            </a: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-Ш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тернбергових </a:t>
            </a:r>
            <a:r>
              <a:rPr b="0" lang="sl-SI" sz="3200" spc="-1" strike="noStrike">
                <a:solidFill>
                  <a:srgbClr val="808080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ел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позади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мали лимфоци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епителоидне ћел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нема еозинофила и плазмоц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нодуларна склер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траке везивног тк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лакунарне и Р</a:t>
            </a: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д</a:t>
            </a: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-Ш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тернбергове ћел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позади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лимфоци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хистиоци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гранулоци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плазмоци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меш</a:t>
            </a:r>
            <a:r>
              <a:rPr b="0" lang="sr-Latn-CS" sz="3600" spc="-1" strike="noStrike">
                <a:solidFill>
                  <a:srgbClr val="ff0000"/>
                </a:solidFill>
                <a:latin typeface="Arial"/>
              </a:rPr>
              <a:t>овит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целуларн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класичне Р</a:t>
            </a: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ид-Ш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тернбергове ћел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позади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лимфоци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хистиоци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еозиноф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плазмоци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деплеција лимфоц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бројне Р</a:t>
            </a: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д</a:t>
            </a: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-Ш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тернбергове ћел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често бизарне фор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некр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деплеција лимфоц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Лимфоцитима богата класична Ход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кинова боле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дифузни облик 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класичне Р</a:t>
            </a: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д</a:t>
            </a: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-Ш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тернбергове ћелије уместо Л&amp;Х </a:t>
            </a:r>
            <a:r>
              <a:rPr b="0" lang="sl-SI" sz="3200" spc="-1" strike="noStrike">
                <a:solidFill>
                  <a:srgbClr val="808080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ел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762120" y="2514600"/>
            <a:ext cx="80769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семинација болести - одређује терапију и прогн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зикални и радиолошки прегле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иопсија к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стн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срж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симптоми: температура, губитак више од 10% тежине, ноћно знојење, свра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684360" y="1197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Одређивање стадију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Клинички стадију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Arial"/>
              </a:rPr>
              <a:t>I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захвaтање јeдног реgиона ЛН ил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мф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дне стр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Arial"/>
              </a:rPr>
              <a:t>II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захвaтање два и в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ше рeгиона ЛН са 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те с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ране дијафрaгме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дијастинум се води као пoсебна лок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изaц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ја, a хиларнa лимфаденопатијa се размaтра билатерaл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Arial"/>
              </a:rPr>
              <a:t>III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захвaтање ЛН ил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струк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у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ра сa обе стране дијафрaг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Arial"/>
              </a:rPr>
              <a:t>IV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захвaтање јeдног ил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више ЕН места (место sе означaвa са 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6920" y="10522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Дијагностички поступци за оцену одређивање стадијума - </a:t>
            </a:r>
            <a:r>
              <a:rPr b="0" lang="sr-CS" sz="3600" spc="-1" strike="noStrike">
                <a:solidFill>
                  <a:srgbClr val="333399"/>
                </a:solidFill>
                <a:latin typeface="Arial"/>
              </a:rPr>
              <a:t>ОБАВЕЗ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реглед боле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Доказ Б симптоматолог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ХО врата, пазуха и преп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ЦТ торакса, абдомена и мале карл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Биопсија костне ср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Arial"/>
              </a:rPr>
              <a:t>Зависи од </a:t>
            </a:r>
            <a:r>
              <a:rPr b="0" lang="sr-CS" sz="3200" spc="-1" strike="noStrike">
                <a:solidFill>
                  <a:srgbClr val="333399"/>
                </a:solidFill>
                <a:latin typeface="Arial"/>
              </a:rPr>
              <a:t>клиничког стадијума</a:t>
            </a:r>
            <a:r>
              <a:rPr b="0" lang="sr-Latn-CS" sz="3200" spc="-1" strike="noStrike">
                <a:solidFill>
                  <a:srgbClr val="333399"/>
                </a:solidFill>
                <a:latin typeface="Arial"/>
              </a:rPr>
              <a:t>!!!!!!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диотера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миотера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Трансплантација матичне ћелије хематопое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0000"/>
                </a:solidFill>
                <a:latin typeface="Arial"/>
              </a:rPr>
              <a:t>ХРОНИЧНА ЛИМФОЦИТНА ЛЕУКЕМ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0000"/>
                </a:solidFill>
                <a:latin typeface="Arial"/>
              </a:rPr>
              <a:t>Нехо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lang="sr-Latn-CS" sz="3600" spc="-1" strike="noStrike">
                <a:solidFill>
                  <a:srgbClr val="ff0000"/>
                </a:solidFill>
                <a:latin typeface="Arial"/>
              </a:rPr>
              <a:t>чкински лимфоми (НХ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838080" y="2590920"/>
            <a:ext cx="83059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SzPct val="1235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Imago"/>
              </a:rPr>
              <a:t>Индолентни НХЛ</a:t>
            </a:r>
            <a:r>
              <a:rPr b="0" lang="sr-CS" sz="1800" spc="-1" strike="noStrike">
                <a:solidFill>
                  <a:srgbClr val="000000"/>
                </a:solidFill>
                <a:latin typeface="Imago"/>
              </a:rPr>
              <a:t> – 70% свих индолентних чини фоликуларни лимф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235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Imago"/>
              </a:rPr>
              <a:t>Агресивни НХЛ</a:t>
            </a:r>
            <a:r>
              <a:rPr b="0" lang="sr-CS" sz="1800" spc="-1" strike="noStrike">
                <a:solidFill>
                  <a:srgbClr val="000000"/>
                </a:solidFill>
                <a:latin typeface="Imago"/>
              </a:rPr>
              <a:t> – Дифузни Б крупноћелијски лимфом (ДБК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235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Imago"/>
              </a:rPr>
              <a:t>Веома агресивни НХЛ</a:t>
            </a:r>
            <a:r>
              <a:rPr b="0" lang="sr-CS" sz="1800" spc="-1" strike="noStrike">
                <a:solidFill>
                  <a:srgbClr val="000000"/>
                </a:solidFill>
                <a:latin typeface="Imago"/>
              </a:rPr>
              <a:t> – </a:t>
            </a:r>
            <a:r>
              <a:rPr b="0" lang="sr-Latn-CS" sz="1800" spc="-1" strike="noStrike">
                <a:solidFill>
                  <a:srgbClr val="000000"/>
                </a:solidFill>
                <a:latin typeface="Imago"/>
              </a:rPr>
              <a:t>Burkitt</a:t>
            </a:r>
            <a:r>
              <a:rPr b="0" lang="sr-CS" sz="1800" spc="-1" strike="noStrike">
                <a:solidFill>
                  <a:srgbClr val="000000"/>
                </a:solidFill>
                <a:latin typeface="Imago"/>
              </a:rPr>
              <a:t> лимф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YU L Swiss"/>
              </a:rPr>
              <a:t>Хрони</a:t>
            </a:r>
            <a:r>
              <a:rPr b="1" lang="sr-Latn-CS" sz="3200" spc="-1" strike="noStrike">
                <a:solidFill>
                  <a:srgbClr val="ff0000"/>
                </a:solidFill>
                <a:latin typeface="YU L Swiss"/>
              </a:rPr>
              <a:t>ч</a:t>
            </a:r>
            <a:r>
              <a:rPr b="1" lang="en-US" sz="3200" spc="-1" strike="noStrike">
                <a:solidFill>
                  <a:srgbClr val="ff0000"/>
                </a:solidFill>
                <a:latin typeface="YU L Swiss"/>
              </a:rPr>
              <a:t>на лимфоцитна леукемија (ХЛ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YU L 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 L Swiss"/>
              </a:rPr>
              <a:t>нају</a:t>
            </a:r>
            <a:r>
              <a:rPr b="0" lang="sr-Latn-CS" sz="3200" spc="-1" strike="noStrike">
                <a:solidFill>
                  <a:srgbClr val="000000"/>
                </a:solidFill>
                <a:latin typeface="YU L Swiss"/>
              </a:rPr>
              <a:t>ч</a:t>
            </a:r>
            <a:r>
              <a:rPr b="0" lang="en-US" sz="3200" spc="-1" strike="noStrike">
                <a:solidFill>
                  <a:srgbClr val="000000"/>
                </a:solidFill>
                <a:latin typeface="YU L Swiss"/>
              </a:rPr>
              <a:t>есталија леукемија у западним земљама (</a:t>
            </a:r>
            <a:r>
              <a:rPr b="0" lang="en-GB" sz="3300" spc="-1" strike="noStrike">
                <a:solidFill>
                  <a:srgbClr val="000000"/>
                </a:solidFill>
                <a:latin typeface="Yu Times New Roman"/>
              </a:rPr>
              <a:t>25 % ме</a:t>
            </a:r>
            <a:r>
              <a:rPr b="0" lang="sr-Latn-CS" sz="3300" spc="-1" strike="noStrike">
                <a:solidFill>
                  <a:srgbClr val="000000"/>
                </a:solidFill>
                <a:latin typeface="Yu Times New Roman"/>
              </a:rPr>
              <a:t>ђ</a:t>
            </a:r>
            <a:r>
              <a:rPr b="0" lang="en-GB" sz="3300" spc="-1" strike="noStrike">
                <a:solidFill>
                  <a:srgbClr val="000000"/>
                </a:solidFill>
                <a:latin typeface="Yu Times New Roman"/>
              </a:rPr>
              <a:t>у свим леукемијама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YU L 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 L Swiss"/>
              </a:rPr>
              <a:t>карактерисана је прогресивном акумулацијом морфоло</a:t>
            </a:r>
            <a:r>
              <a:rPr b="0" lang="sr-Latn-CS" sz="3200" spc="-1" strike="noStrike">
                <a:solidFill>
                  <a:srgbClr val="000000"/>
                </a:solidFill>
                <a:latin typeface="YU L Swiss"/>
              </a:rPr>
              <a:t>ш</a:t>
            </a:r>
            <a:r>
              <a:rPr b="0" lang="en-US" sz="3200" spc="-1" strike="noStrike">
                <a:solidFill>
                  <a:srgbClr val="000000"/>
                </a:solidFill>
                <a:latin typeface="YU L Swiss"/>
              </a:rPr>
              <a:t>ки зрелих али имуноло</a:t>
            </a:r>
            <a:r>
              <a:rPr b="0" lang="sr-Latn-CS" sz="3200" spc="-1" strike="noStrike">
                <a:solidFill>
                  <a:srgbClr val="000000"/>
                </a:solidFill>
                <a:latin typeface="YU L Swiss"/>
              </a:rPr>
              <a:t>ш</a:t>
            </a:r>
            <a:r>
              <a:rPr b="0" lang="en-US" sz="3200" spc="-1" strike="noStrike">
                <a:solidFill>
                  <a:srgbClr val="000000"/>
                </a:solidFill>
                <a:latin typeface="YU L Swiss"/>
              </a:rPr>
              <a:t>ки некомпетентних лимфоц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YU L Swiss"/>
              </a:rPr>
              <a:t>ХЛ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Yu Times New Roman"/>
              </a:rPr>
              <a:t>однос му</a:t>
            </a:r>
            <a:r>
              <a:rPr b="0" lang="sr-Latn-CS" sz="2900" spc="-1" strike="noStrike">
                <a:solidFill>
                  <a:srgbClr val="000000"/>
                </a:solidFill>
                <a:latin typeface="Yu Times New Roman"/>
              </a:rPr>
              <a:t>ш</a:t>
            </a:r>
            <a:r>
              <a:rPr b="0" lang="en-GB" sz="2900" spc="-1" strike="noStrike">
                <a:solidFill>
                  <a:srgbClr val="000000"/>
                </a:solidFill>
                <a:latin typeface="Yu Times New Roman"/>
              </a:rPr>
              <a:t>ког: </a:t>
            </a:r>
            <a:r>
              <a:rPr b="0" lang="sr-Latn-CS" sz="2900" spc="-1" strike="noStrike">
                <a:solidFill>
                  <a:srgbClr val="000000"/>
                </a:solidFill>
                <a:latin typeface="Yu Times New Roman"/>
              </a:rPr>
              <a:t>ж</a:t>
            </a:r>
            <a:r>
              <a:rPr b="0" lang="en-GB" sz="2900" spc="-1" strike="noStrike">
                <a:solidFill>
                  <a:srgbClr val="000000"/>
                </a:solidFill>
                <a:latin typeface="Yu Times New Roman"/>
              </a:rPr>
              <a:t>енског пола = 2 : 1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Yu Times New Roman"/>
              </a:rPr>
              <a:t>узраст: 60- 80 година (</a:t>
            </a:r>
            <a:r>
              <a:rPr b="0" lang="en-US" sz="2800" spc="-1" strike="noStrike">
                <a:solidFill>
                  <a:srgbClr val="000000"/>
                </a:solidFill>
                <a:latin typeface="YU L Swiss"/>
              </a:rPr>
              <a:t>узраст </a:t>
            </a:r>
            <a:r>
              <a:rPr b="0" lang="en-US" sz="2800" spc="-1" strike="noStrike">
                <a:solidFill>
                  <a:srgbClr val="000000"/>
                </a:solidFill>
                <a:latin typeface="Aldine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YU L Swiss"/>
              </a:rPr>
              <a:t>60 година - 75% болесни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Yu Times New Roman"/>
              </a:rPr>
              <a:t>фамилијарна појава болести: код 2 % болесник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YU L 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 L Swiss"/>
              </a:rPr>
              <a:t>медијана ду</a:t>
            </a:r>
            <a:r>
              <a:rPr b="0" lang="sr-Latn-CS" sz="2800" spc="-1" strike="noStrike">
                <a:solidFill>
                  <a:srgbClr val="000000"/>
                </a:solidFill>
                <a:latin typeface="YU L Swiss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YU L Swiss"/>
              </a:rPr>
              <a:t>ине пре</a:t>
            </a:r>
            <a:r>
              <a:rPr b="0" lang="sr-Latn-CS" sz="2800" spc="-1" strike="noStrike">
                <a:solidFill>
                  <a:srgbClr val="000000"/>
                </a:solidFill>
                <a:latin typeface="YU L Swiss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YU L Swiss"/>
              </a:rPr>
              <a:t>ивљавања: 10 г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више од 95% болесника ХЛЛ је Б-лимфоцитног поре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YU L Swiss"/>
              </a:rPr>
              <a:t>ХЛ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Етиопатогенеза још увек непознат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Није детектована типична цитогенетска абнормалнос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Малигно трансформисани лимфоцити слабије подлежу апоптози што им продужава живот. То је једно од објашњења акумулације лимфоцита у ХЛЛ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ред тога, имају нешто већи пролиферативни потенцијал у односу на здраве лимфоци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YU L Swiss"/>
              </a:rPr>
              <a:t>Клини</a:t>
            </a:r>
            <a:r>
              <a:rPr b="0" lang="sr-CS" sz="3600" spc="-1" strike="noStrike">
                <a:solidFill>
                  <a:srgbClr val="ff0000"/>
                </a:solidFill>
                <a:latin typeface="YU L Swiss"/>
              </a:rPr>
              <a:t>ч</a:t>
            </a:r>
            <a:r>
              <a:rPr b="0" lang="en-US" sz="3600" spc="-1" strike="noStrike">
                <a:solidFill>
                  <a:srgbClr val="ff0000"/>
                </a:solidFill>
                <a:latin typeface="YU L Swiss"/>
              </a:rPr>
              <a:t>ке манифестације ХЛ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333399"/>
                </a:solidFill>
                <a:uFillTx/>
                <a:latin typeface="Arial"/>
              </a:rPr>
              <a:t>Иницијалне манифестације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од 30% болесника болест се открива након рутинског прегледа периферне крвне слике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ер болесници немају никакве симпто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гу да постоје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имптоми анемиј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безболно ув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ње лимфних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чво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 инфекција дисајних путева или запаљење пл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YU L Swiss"/>
              </a:rPr>
              <a:t>Клини</a:t>
            </a:r>
            <a:r>
              <a:rPr b="0" lang="sr-Latn-CS" sz="3600" spc="-1" strike="noStrike">
                <a:solidFill>
                  <a:srgbClr val="ff0000"/>
                </a:solidFill>
                <a:latin typeface="YU L Swiss"/>
              </a:rPr>
              <a:t>ч</a:t>
            </a:r>
            <a:r>
              <a:rPr b="0" lang="en-US" sz="3600" spc="-1" strike="noStrike">
                <a:solidFill>
                  <a:srgbClr val="ff0000"/>
                </a:solidFill>
                <a:latin typeface="YU L Swiss"/>
              </a:rPr>
              <a:t>ке манифестације ХЛ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333399"/>
                </a:solidFill>
                <a:uFillTx/>
                <a:latin typeface="Arial"/>
              </a:rPr>
              <a:t>објективни преглед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иметр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о ув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ње лимфних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чворова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на врату, у пазуху и препон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пленомегалија (код 50% болесни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хепатомегалија (ретк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YU L Swiss"/>
              </a:rPr>
              <a:t>Лабораторијски налази у Х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333399"/>
                </a:solidFill>
                <a:uFillTx/>
                <a:latin typeface="Arial"/>
              </a:rPr>
              <a:t>преглед периферне крв</a:t>
            </a:r>
            <a:r>
              <a:rPr b="1" i="1" lang="sr-Latn-CS" sz="2400" spc="-1" strike="noStrike" u="sng">
                <a:solidFill>
                  <a:srgbClr val="333399"/>
                </a:solidFill>
                <a:uFillTx/>
                <a:latin typeface="Arial"/>
              </a:rPr>
              <a:t>и</a:t>
            </a:r>
            <a:r>
              <a:rPr b="1" i="1" lang="en-GB" sz="2400" spc="-1" strike="noStrike" u="sng">
                <a:solidFill>
                  <a:srgbClr val="333399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лимфоцитоза : &gt; 5 x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клонских Б-лимфоц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mpreht-ове се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олимфоцити: 1-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немија (&lt; 10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/ &lt;11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тромбоцитопенија (&lt; 100 x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333399"/>
                </a:solidFill>
                <a:uFillTx/>
                <a:latin typeface="Yu Times New Roman"/>
              </a:rPr>
              <a:t>биохемијске анализе </a:t>
            </a:r>
            <a:r>
              <a:rPr b="1" i="1" lang="sr-CS" sz="2400" spc="-1" strike="noStrike" u="sng">
                <a:solidFill>
                  <a:srgbClr val="333399"/>
                </a:solidFill>
                <a:uFillTx/>
                <a:latin typeface="Arial"/>
              </a:rPr>
              <a:t>–могу да се региструју</a:t>
            </a:r>
            <a:r>
              <a:rPr b="1" i="1" lang="en-GB" sz="2400" spc="-1" strike="noStrike" u="sng">
                <a:solidFill>
                  <a:srgbClr val="333399"/>
                </a:solidFill>
                <a:uFillTx/>
                <a:latin typeface="Yu 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Yu Times New Roman"/>
              </a:rPr>
              <a:t>пови</a:t>
            </a:r>
            <a:r>
              <a:rPr b="0" lang="sr-Latn-CS" sz="2400" spc="-1" strike="noStrike">
                <a:solidFill>
                  <a:srgbClr val="000000"/>
                </a:solidFill>
                <a:latin typeface="Yu Times New Roman"/>
              </a:rPr>
              <a:t>ш</a:t>
            </a:r>
            <a:r>
              <a:rPr b="0" lang="en-GB" sz="2400" spc="-1" strike="noStrike">
                <a:solidFill>
                  <a:srgbClr val="000000"/>
                </a:solidFill>
                <a:latin typeface="Yu Times New Roman"/>
              </a:rPr>
              <a:t>ени у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Yu Times New Roman"/>
              </a:rPr>
              <a:t>хипогамаглобулин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YU L Swiss"/>
              </a:rPr>
              <a:t>Преглед костне ср</a:t>
            </a:r>
            <a:r>
              <a:rPr b="1" i="1" lang="sr-Latn-CS" sz="2800" spc="-1" strike="noStrike">
                <a:solidFill>
                  <a:srgbClr val="ff0000"/>
                </a:solidFill>
                <a:latin typeface="YU L Swiss"/>
              </a:rPr>
              <a:t>ж</a:t>
            </a:r>
            <a:r>
              <a:rPr b="1" i="1" lang="en-US" sz="2800" spc="-1" strike="noStrike">
                <a:solidFill>
                  <a:srgbClr val="ff0000"/>
                </a:solidFill>
                <a:latin typeface="YU L Swiss"/>
              </a:rPr>
              <a:t>и у Х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Yu Times New Roman"/>
              </a:rPr>
              <a:t>аспирација</a:t>
            </a:r>
            <a:r>
              <a:rPr b="0" lang="en-GB" sz="2400" spc="-1" strike="noStrike">
                <a:solidFill>
                  <a:srgbClr val="000000"/>
                </a:solidFill>
                <a:latin typeface="Yu Times New Roman"/>
              </a:rPr>
              <a:t>: инфилтрација лимфоцитима &gt;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Yu Times New Roman"/>
              </a:rPr>
              <a:t>биопсија</a:t>
            </a:r>
            <a:r>
              <a:rPr b="0" lang="en-GB" sz="2400" spc="-1" strike="noStrike">
                <a:solidFill>
                  <a:srgbClr val="000000"/>
                </a:solidFill>
                <a:latin typeface="Yu Times New Roman"/>
              </a:rPr>
              <a:t>: 4 хистолоска типа инфилтраци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Yu Times New Roman"/>
              </a:rPr>
              <a:t>1. нодулар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Yu Times New Roman"/>
              </a:rPr>
              <a:t>2. интерстицијал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Yu Times New Roman"/>
              </a:rPr>
              <a:t>3. ме</a:t>
            </a:r>
            <a:r>
              <a:rPr b="0" lang="sr-Latn-CS" sz="2400" spc="-1" strike="noStrike">
                <a:solidFill>
                  <a:srgbClr val="000000"/>
                </a:solidFill>
                <a:latin typeface="Yu Times New Roman"/>
              </a:rPr>
              <a:t>ш</a:t>
            </a:r>
            <a:r>
              <a:rPr b="0" lang="en-GB" sz="2400" spc="-1" strike="noStrike">
                <a:solidFill>
                  <a:srgbClr val="000000"/>
                </a:solidFill>
                <a:latin typeface="Yu Times New Roman"/>
              </a:rPr>
              <a:t>овити нодуларни и интерстицијал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Yu Times New Roman"/>
              </a:rPr>
              <a:t>4. дифу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YU L Swiss"/>
              </a:rPr>
              <a:t>Радиолошки налази...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тг грудног 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: хиларна лимфаденопатија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ЕХО (или ЦТ) абдомена : ретроперитонеална лимфаденопат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YU L Swiss"/>
              </a:rPr>
              <a:t>Стандардни критеријуми за дијагнозу ХЛЛ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5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x10e9/l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лимфоцита у периферној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рви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- имунофенотипски скор 4 или 5 (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Matutes score):</a:t>
            </a:r>
            <a:br>
              <a:rPr sz="2800"/>
            </a:b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CD5+, CD23+, CD22-, fmc7-, SIg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YU L Swiss"/>
              </a:rPr>
              <a:t>Модификовани Rai-ов staging си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ff0000"/>
                </a:solidFill>
                <a:latin typeface="YU L Swiss"/>
              </a:rPr>
              <a:t>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24000" y="1773360"/>
          <a:ext cx="8496000" cy="4829040"/>
        </p:xfrm>
        <a:graphic>
          <a:graphicData uri="http://schemas.openxmlformats.org/drawingml/2006/table">
            <a:tbl>
              <a:tblPr/>
              <a:tblGrid>
                <a:gridCol w="1439640"/>
                <a:gridCol w="1295640"/>
                <a:gridCol w="2952720"/>
                <a:gridCol w="1224000"/>
                <a:gridCol w="158400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Стадију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Риз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Клини</a:t>
                      </a: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ч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ке</a:t>
                      </a:r>
                      <a:r>
                        <a:rPr b="0" lang="sr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и лабораторијск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манифестациј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5-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пре</a:t>
                      </a:r>
                      <a:r>
                        <a:rPr b="0" lang="sr-CS" sz="20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живљавањ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Ме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пре</a:t>
                      </a:r>
                      <a:r>
                        <a:rPr b="0" lang="sr-CS" sz="20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живљавањ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ма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само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лимфоцитоз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&gt;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средњ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лимфоцитоз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 + Л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м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аденопат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9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средњ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лимфоцитоз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 + хепато/сpлeнoмe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8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вис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лимфоцитоз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 + Хб&lt;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&lt;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1,5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вис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лимфоцитоз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 + Тр&lt;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1,5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0000"/>
                </a:solidFill>
                <a:latin typeface="Arial"/>
              </a:rPr>
              <a:t>Нехо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lang="sr-Latn-CS" sz="3600" spc="-1" strike="noStrike">
                <a:solidFill>
                  <a:srgbClr val="ff0000"/>
                </a:solidFill>
                <a:latin typeface="Arial"/>
              </a:rPr>
              <a:t>чкински лимфоми (НХ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2327040"/>
            <a:ext cx="8588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еход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нски лимфоми (НХЛ) представљају малигне лимфопролиферативне болест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е 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одликују различитим клиничким током и прогноз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Чине 5% свих малигних боле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од већине болесника НХЛ се дијагностикују у одмаклом живо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добу (преко 65 годи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Чешће се јављају код особа мушког по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однос 2 : 1 у корист мушкарац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следњих година бележи се пораст броја оболелих и међу млађим особама што се приписује већ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 бројем особа инфицираних ХИВ вирусо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имуносупресијом и др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главном се НХЛ јављају спорадично, али је забележена и појава да се у неким породицама јављају чешће (нарочито НХЛ малих лимфоцита – СЛЛ), што наводи на чињеницу да у постоји генетски детерминисана предиспозиција за настанак и развој НХ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YU L Swiss"/>
              </a:rPr>
              <a:t>Binet-ов staging си</a:t>
            </a:r>
            <a:r>
              <a:rPr b="1" lang="sr-CS" sz="2800" spc="-1" strike="noStrike">
                <a:solidFill>
                  <a:srgbClr val="ff0000"/>
                </a:solidFill>
                <a:latin typeface="YU L Swiss"/>
              </a:rPr>
              <a:t>с</a:t>
            </a:r>
            <a:r>
              <a:rPr b="1" lang="en-US" sz="2800" spc="-1" strike="noStrike">
                <a:solidFill>
                  <a:srgbClr val="ff0000"/>
                </a:solidFill>
                <a:latin typeface="YU L Swiss"/>
              </a:rPr>
              <a:t>тем за ХЛ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79280" y="1989000"/>
          <a:ext cx="8785440" cy="4526280"/>
        </p:xfrm>
        <a:graphic>
          <a:graphicData uri="http://schemas.openxmlformats.org/drawingml/2006/table">
            <a:tbl>
              <a:tblPr/>
              <a:tblGrid>
                <a:gridCol w="1884600"/>
                <a:gridCol w="2251080"/>
                <a:gridCol w="2549520"/>
                <a:gridCol w="210024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тадиј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Клини</a:t>
                      </a: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ч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манифеста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5-годи</a:t>
                      </a: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ш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пре</a:t>
                      </a: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ж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ивљав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Медиј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(године)</a:t>
                      </a:r>
                      <a:r>
                        <a:rPr b="0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преживљава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&lt;2 регије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лимфаденопат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ldine"/>
                        </a:rPr>
                        <a:t>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3 регије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лимфаденопат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6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Хб&lt;10 g/d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Тр&lt;100 x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YU L Swiss"/>
                        </a:rPr>
                        <a:t>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2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оци анемије у Х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суфицијенција нормалне еритропое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фицит гв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или фол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иперсплениз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утоимуна хемолизна ан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КЛИНИЧКЕ КОМПЛИК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820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прес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рмалне хематопое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нфективне компликациј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о последиц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н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утроп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ни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пога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глобулинеми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лимфопени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утоимуни поремећаји укључујући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ауто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ну хемолизну анемију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ут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муну тромбоцитопениј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и д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хтеров синдром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5–1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ундарни малигнитети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&gt;1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1619280" y="1700280"/>
            <a:ext cx="6477120" cy="0"/>
          </a:xfrm>
          <a:prstGeom prst="line">
            <a:avLst/>
          </a:prstGeom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YU L Swiss"/>
              </a:rPr>
              <a:t>ТЕРАПИЈА ХЛ</a:t>
            </a:r>
            <a:r>
              <a:rPr b="1" i="1" lang="sr-CS" sz="4400" spc="-1" strike="noStrike">
                <a:solidFill>
                  <a:srgbClr val="ff0000"/>
                </a:solidFill>
                <a:latin typeface="YU L Swiss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YU L Swiss"/>
              </a:rPr>
              <a:t>ТЕРАПИЈА ХЛ</a:t>
            </a:r>
            <a:r>
              <a:rPr b="1" i="1" lang="sr-CS" sz="4400" spc="-1" strike="noStrike">
                <a:solidFill>
                  <a:srgbClr val="ff0000"/>
                </a:solidFill>
                <a:latin typeface="YU L Swiss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ома често терапију није неопходно одмах применити по постављању дијагнозе, већ се примењује принцип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watch and w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актично значи да болесник долази на контролне прегледе (обично на 3 месеца) где се региструје постојање критеријума за започињање терап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YU L Swiss"/>
              </a:rPr>
              <a:t>Фактори од зна</a:t>
            </a:r>
            <a:r>
              <a:rPr b="1" lang="sr-Latn-CS" sz="2800" spc="-1" strike="noStrike">
                <a:solidFill>
                  <a:srgbClr val="ff0000"/>
                </a:solidFill>
                <a:latin typeface="YU L Swiss"/>
              </a:rPr>
              <a:t>ч</a:t>
            </a:r>
            <a:r>
              <a:rPr b="1" lang="en-US" sz="2800" spc="-1" strike="noStrike">
                <a:solidFill>
                  <a:srgbClr val="ff0000"/>
                </a:solidFill>
                <a:latin typeface="YU L Swiss"/>
              </a:rPr>
              <a:t>аја за запо</a:t>
            </a:r>
            <a:r>
              <a:rPr b="1" lang="sr-Latn-CS" sz="2800" spc="-1" strike="noStrike">
                <a:solidFill>
                  <a:srgbClr val="ff0000"/>
                </a:solidFill>
                <a:latin typeface="YU L Swiss"/>
              </a:rPr>
              <a:t>ч</a:t>
            </a:r>
            <a:r>
              <a:rPr b="1" lang="en-US" sz="2800" spc="-1" strike="noStrike">
                <a:solidFill>
                  <a:srgbClr val="ff0000"/>
                </a:solidFill>
                <a:latin typeface="YU L Swiss"/>
              </a:rPr>
              <a:t>ињање ле</a:t>
            </a:r>
            <a:r>
              <a:rPr b="1" lang="sr-Latn-CS" sz="2800" spc="-1" strike="noStrike">
                <a:solidFill>
                  <a:srgbClr val="ff0000"/>
                </a:solidFill>
                <a:latin typeface="YU L Swiss"/>
              </a:rPr>
              <a:t>ч</a:t>
            </a:r>
            <a:r>
              <a:rPr b="1" lang="en-US" sz="2800" spc="-1" strike="noStrike">
                <a:solidFill>
                  <a:srgbClr val="ff0000"/>
                </a:solidFill>
                <a:latin typeface="YU L Swiss"/>
              </a:rPr>
              <a:t>ења код болесника са Х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YU L 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U L Swiss"/>
              </a:rPr>
              <a:t>Присуство оп</a:t>
            </a:r>
            <a:r>
              <a:rPr b="0" lang="sr-CS" sz="2400" spc="-1" strike="noStrike">
                <a:solidFill>
                  <a:srgbClr val="000000"/>
                </a:solidFill>
                <a:latin typeface="YU L Swiss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YU L Swiss"/>
              </a:rPr>
              <a:t>тих симптома: губитак у телесној те</a:t>
            </a:r>
            <a:r>
              <a:rPr b="0" lang="sr-CS" sz="2400" spc="-1" strike="noStrike">
                <a:solidFill>
                  <a:srgbClr val="000000"/>
                </a:solidFill>
                <a:latin typeface="YU L Swiss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YU L Swiss"/>
              </a:rPr>
              <a:t>ини, изра</a:t>
            </a:r>
            <a:r>
              <a:rPr b="0" lang="sr-CS" sz="2400" spc="-1" strike="noStrike">
                <a:solidFill>
                  <a:srgbClr val="000000"/>
                </a:solidFill>
                <a:latin typeface="YU L Swiss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YU L Swiss"/>
              </a:rPr>
              <a:t>ено лако замарање, пови</a:t>
            </a:r>
            <a:r>
              <a:rPr b="0" lang="sr-CS" sz="2400" spc="-1" strike="noStrike">
                <a:solidFill>
                  <a:srgbClr val="000000"/>
                </a:solidFill>
                <a:latin typeface="YU L Swiss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YU L Swiss"/>
              </a:rPr>
              <a:t>ена Т или но</a:t>
            </a:r>
            <a:r>
              <a:rPr b="0" lang="sr-CS" sz="2400" spc="-1" strike="noStrike">
                <a:solidFill>
                  <a:srgbClr val="000000"/>
                </a:solidFill>
                <a:latin typeface="YU L Swiss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YU L Swiss"/>
              </a:rPr>
              <a:t>но знојење (без доказане инфек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YU L 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U L Swiss"/>
              </a:rPr>
              <a:t>Погор</a:t>
            </a:r>
            <a:r>
              <a:rPr b="0" lang="sr-CS" sz="2400" spc="-1" strike="noStrike">
                <a:solidFill>
                  <a:srgbClr val="000000"/>
                </a:solidFill>
                <a:latin typeface="YU L Swiss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YU L Swiss"/>
              </a:rPr>
              <a:t>ање анемије и тромбоцитопен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YU L 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U L Swiss"/>
              </a:rPr>
              <a:t>Изра</a:t>
            </a:r>
            <a:r>
              <a:rPr b="0" lang="sr-Latn-CS" sz="2400" spc="-1" strike="noStrike">
                <a:solidFill>
                  <a:srgbClr val="000000"/>
                </a:solidFill>
                <a:latin typeface="YU L Swiss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YU L Swiss"/>
              </a:rPr>
              <a:t>ена или прогресивна лимфаденопат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YU L 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U L Swiss"/>
              </a:rPr>
              <a:t>Масивна или прогресивна спленомегал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YU L 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U L Swiss"/>
              </a:rPr>
              <a:t>Аутоимуне цитопеније резистентне на кортикостероид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YU L 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U L Swiss"/>
              </a:rPr>
              <a:t>Брзо пов</a:t>
            </a:r>
            <a:r>
              <a:rPr b="0" lang="sr-Latn-CS" sz="2400" spc="-1" strike="noStrike">
                <a:solidFill>
                  <a:srgbClr val="000000"/>
                </a:solidFill>
                <a:latin typeface="YU L Swiss"/>
              </a:rPr>
              <a:t>ећање</a:t>
            </a:r>
            <a:r>
              <a:rPr b="0" lang="en-US" sz="2400" spc="-1" strike="noStrike">
                <a:solidFill>
                  <a:srgbClr val="000000"/>
                </a:solidFill>
                <a:latin typeface="YU L Swiss"/>
              </a:rPr>
              <a:t> броја </a:t>
            </a:r>
            <a:r>
              <a:rPr b="0" lang="sr-CS" sz="2400" spc="-1" strike="noStrike">
                <a:solidFill>
                  <a:srgbClr val="000000"/>
                </a:solidFill>
                <a:latin typeface="YU L Swiss"/>
              </a:rPr>
              <a:t>лимфоцита</a:t>
            </a:r>
            <a:r>
              <a:rPr b="0" lang="en-US" sz="2400" spc="-1" strike="noStrike">
                <a:solidFill>
                  <a:srgbClr val="000000"/>
                </a:solidFill>
                <a:latin typeface="YU L Swiss"/>
              </a:rPr>
              <a:t> у периферној кр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YU L Swiss"/>
              </a:rPr>
              <a:t>Хемиотерап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YU L 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YU L Swiss"/>
              </a:rPr>
              <a:t>Флударабин + Циклофосфамид + Риту</a:t>
            </a:r>
            <a:r>
              <a:rPr b="1" lang="sr-CS" sz="2400" spc="-1" strike="noStrike">
                <a:solidFill>
                  <a:srgbClr val="333399"/>
                </a:solidFill>
                <a:latin typeface="YU L Swiss"/>
              </a:rPr>
              <a:t>кс</a:t>
            </a:r>
            <a:r>
              <a:rPr b="1" lang="en-US" sz="2400" spc="-1" strike="noStrike">
                <a:solidFill>
                  <a:srgbClr val="333399"/>
                </a:solidFill>
                <a:latin typeface="YU L Swiss"/>
              </a:rPr>
              <a:t>има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YU L 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YU L Swiss"/>
              </a:rPr>
              <a:t>Флударaбин + Ц</a:t>
            </a:r>
            <a:r>
              <a:rPr b="1" lang="sr-CS" sz="2400" spc="-1" strike="noStrike">
                <a:solidFill>
                  <a:srgbClr val="000000"/>
                </a:solidFill>
                <a:latin typeface="YU L Swiss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YU L Swiss"/>
              </a:rPr>
              <a:t>к</a:t>
            </a:r>
            <a:r>
              <a:rPr b="1" lang="sr-CS" sz="2400" spc="-1" strike="noStrike">
                <a:solidFill>
                  <a:srgbClr val="000000"/>
                </a:solidFill>
                <a:latin typeface="YU L Swiss"/>
              </a:rPr>
              <a:t>л</a:t>
            </a:r>
            <a:r>
              <a:rPr b="1" lang="en-US" sz="2400" spc="-1" strike="noStrike">
                <a:solidFill>
                  <a:srgbClr val="000000"/>
                </a:solidFill>
                <a:latin typeface="YU L Swiss"/>
              </a:rPr>
              <a:t>офoс</a:t>
            </a:r>
            <a:r>
              <a:rPr b="1" lang="sr-CS" sz="2400" spc="-1" strike="noStrike">
                <a:solidFill>
                  <a:srgbClr val="000000"/>
                </a:solidFill>
                <a:latin typeface="YU L Swiss"/>
              </a:rPr>
              <a:t>фам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лорамбуц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YU L 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YU L Swiss"/>
              </a:rPr>
              <a:t>Флударабин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ртикостеро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ШТА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Е ПОС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ТИЖЕ ДАНАШЊОМ  КОНВЕНЦИОНАЛНОМ ТЕРАПИЈОМ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8083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Висока стопа терапијског одго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родужено трајање терапијског одго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ШТА КОНВЕНЦИОНАЛНА ТЕРАПИЈА НЕ УСПЕВ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1258920" y="5445000"/>
            <a:ext cx="6232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УЖЕТАК ПРЕЖИВЉАВ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 rot="1643400">
            <a:off x="3850920" y="4941720"/>
            <a:ext cx="304920" cy="747720"/>
          </a:xfrm>
          <a:prstGeom prst="downArrow">
            <a:avLst>
              <a:gd name="adj1" fmla="val 50000"/>
              <a:gd name="adj2" fmla="val 61305"/>
            </a:avLst>
          </a:prstGeom>
          <a:solidFill>
            <a:srgbClr val="3366cc"/>
          </a:solidFill>
          <a:ln w="9360">
            <a:solidFill>
              <a:srgbClr val="a01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1523880" y="838080"/>
            <a:ext cx="6477120" cy="0"/>
          </a:xfrm>
          <a:prstGeom prst="line">
            <a:avLst/>
          </a:prstGeom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5% нодал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% екстранодaл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042920" y="126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0000"/>
                </a:solidFill>
                <a:latin typeface="Arial"/>
              </a:rPr>
              <a:t>Нехо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lang="sr-Latn-CS" sz="3600" spc="-1" strike="noStrike">
                <a:solidFill>
                  <a:srgbClr val="ff0000"/>
                </a:solidFill>
                <a:latin typeface="Arial"/>
              </a:rPr>
              <a:t>чкински лимфоми (НХ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5% Б лимф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% Т лимф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042920" y="126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0000"/>
                </a:solidFill>
                <a:latin typeface="Arial"/>
              </a:rPr>
              <a:t>Нехо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lang="sr-Latn-CS" sz="3600" spc="-1" strike="noStrike">
                <a:solidFill>
                  <a:srgbClr val="ff0000"/>
                </a:solidFill>
                <a:latin typeface="Arial"/>
              </a:rPr>
              <a:t>чкински лимфоми (НХ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Етиологија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НХ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ја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унодефицијен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утоимуне бол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icob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еr p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ктерије или Giardia у црев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HV-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LV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рус Ц хепа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т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Marina</cp:lastModifiedBy>
  <dcterms:modified xsi:type="dcterms:W3CDTF">2017-09-05T21:52:03Z</dcterms:modified>
  <cp:revision>21</cp:revision>
  <dc:subject/>
  <dc:title>Slide 1</dc:title>
</cp:coreProperties>
</file>